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B8B2-D07F-4CBC-AC2F-4DEAC5EE1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2374-3638-4F68-96EE-FB139389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6E27-BC22-4734-8F5C-378877A9A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DC9D-45B6-448B-B1E1-D1FDC3F02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796E-1FB3-41E9-B775-854459942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23C2B-FD89-4DF3-846F-BD3E3908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D6CC-3645-4200-AD8D-AB25DC87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6DAC-BAD1-4CD8-AB17-569255D8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399C-B55C-4572-9D97-5383FDB5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8459-BDD8-4A59-8308-B9CD8F2B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B89A-4210-4FC0-812F-14C75BB9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3875-AEB2-4D67-9CFC-8536009B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A236-8625-4F7B-80A8-0644AA95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8896-5CCE-42CD-A5B8-6AE1C10D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75C3-CBDC-47F1-9004-6293B7A1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E869-A588-41F1-AAF6-E47E985AA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49DFD-40C8-4D9F-87D4-9DAAE64E0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8A7D-F391-430A-B4E9-651093D9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576B-F4EA-4D0B-A52C-A829D127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E078-BF74-4E62-BBF6-0F9680C0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68D6-7298-4414-B602-278796B1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B011-BAD3-4F3B-A6BF-EC8ADA74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9C1B-A58B-4065-BBEF-F5D7B072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9464-BD91-4009-A458-F3817D76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AA04-E5D6-4CD7-978C-36A00B735506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2347-7BCE-4035-A78F-853EED587408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FORMULIRANJE PROBLEMA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907640" y="4868640"/>
            <a:ext cx="672804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Blaž Mesec in Liljana Rihter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FORMULIRANJE PROBLEMA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STAVINE PROBLEMSKE SITUACIJE: </a:t>
            </a:r>
            <a:r>
              <a:rPr b="1" lang="en-US" sz="3200" spc="-1" strike="noStrike">
                <a:solidFill>
                  <a:srgbClr val="cc99ff"/>
                </a:solidFill>
                <a:latin typeface="Verdana"/>
              </a:rPr>
              <a:t>Obstoj negotovosti, dvom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rimer: ali naj ustanovimo VDC ali ne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Če uporabnik raziskave ne dvomi, je odločen, kaj bo ukrenil  </a:t>
            </a:r>
            <a:r>
              <a:rPr b="0" lang="en-US" sz="3200" spc="-1" strike="noStrike">
                <a:solidFill>
                  <a:srgbClr val="ff9933"/>
                </a:solidFill>
                <a:latin typeface="Verdana"/>
              </a:rPr>
              <a:t>raziskava ni potrebna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5148360" y="4797360"/>
            <a:ext cx="215640" cy="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FORMULIRANJE PROBLEMA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STAVINE PROBLEMSKE SITUACIJE: </a:t>
            </a:r>
            <a:r>
              <a:rPr b="1" lang="en-US" sz="3200" spc="-1" strike="noStrike">
                <a:solidFill>
                  <a:srgbClr val="cc99ff"/>
                </a:solidFill>
                <a:latin typeface="Verdana"/>
              </a:rPr>
              <a:t>Pogoji obstoja problem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Značilnosti družbene situacije, ki pogojujejo problem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rimer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Zakonodaja: ob spremembi, problem odpade, ali se spremeni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rganizacija služb: pristojnosti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emografija: staranje, priseljenci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Če se pogoji spremenijo, problem izgine ali se spremeni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FORMULIRANJE PROBLEMA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ZAPIS PROBLEMA: </a:t>
            </a:r>
            <a:r>
              <a:rPr b="1" lang="en-US" sz="4000" spc="-1" strike="noStrike">
                <a:solidFill>
                  <a:srgbClr val="cc99ff"/>
                </a:solidFill>
                <a:latin typeface="Verdana"/>
              </a:rPr>
              <a:t>logika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alternativni ukrepi (dejanja)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mere učinkovitosti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pogoji sprejemljivosti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hipoteze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možne napake in njihove posledice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FORMULIRANJE PROBLEMA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ZAPIS PROBLEMA: </a:t>
            </a:r>
            <a:r>
              <a:rPr b="1" lang="en-US" sz="2400" spc="-1" strike="noStrike">
                <a:solidFill>
                  <a:srgbClr val="cc99ff"/>
                </a:solidFill>
                <a:latin typeface="Verdana"/>
              </a:rPr>
              <a:t>primer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“Ustanovitev VDC”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Verdana"/>
              </a:rPr>
              <a:t>Alternativni ukrepi (dejanja):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ustanovimo VDC; ne ustanovimo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Verdana"/>
              </a:rPr>
              <a:t>Mere učinkovitosti (kriterij):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število potencialnih uporabnikov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Verdana"/>
              </a:rPr>
              <a:t>Pogoji sprejemljivosti: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če je število potencialnih uporabnikov večje od X (npr. 10), ustanovimo VDC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Verdana"/>
              </a:rPr>
              <a:t>Hipoteze: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število uporabnikov je/ni večje od X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Verdana"/>
              </a:rPr>
              <a:t>Napake: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če ugotovimo, da je f&gt;X, ko je v resnici f &lt;X; če ugotovimo, da je f&lt;10, ko je v resnici f&gt;X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Verdana"/>
              </a:rPr>
              <a:t>Možne posledice: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N1: ustanovimo VDC, ki ostane prazen; N2: ne ustanovimo VDC, ko bi bil potrebe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FORMULIRANJE PROBLEMA </a:t>
            </a:r>
            <a:r>
              <a:rPr b="0" lang="en-US" sz="3600" spc="-1" strike="noStrike">
                <a:solidFill>
                  <a:srgbClr val="cc99ff"/>
                </a:solidFill>
                <a:latin typeface="Verdana"/>
              </a:rPr>
              <a:t>(primer)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0" y="907920"/>
          <a:ext cx="9144000" cy="592956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3880"/>
              </a:tblGrid>
              <a:tr h="12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ALTERNATIVNA DEJANJA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MERE UČINKOVITOSTI KRITERIJI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POGOJI SPREJEMLJIVOSTI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HIPOTEZE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MOŽNE NAPAKE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99ff"/>
                          </a:solidFill>
                          <a:latin typeface="Verdana"/>
                        </a:rPr>
                        <a:t>POSLEDICE MOŽNIH NAPAK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24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A1: ustanovimo lokalno enoto VDC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Preskrbljenost</a:t>
                      </a: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(varstvo, delo, hrana) (P)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troški družin, države</a:t>
                      </a: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(S)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troški na varovanca</a:t>
                      </a: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(vsaj 10) (S/V)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Zadovoljstvo varovancev, staršev</a:t>
                      </a: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(Z)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Izberemo A1, če bodo P, S in Z ugodnejši v novi enoti ter 10 kand.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H1: V novi enoti so P, S in Z ugodnejši; K&gt; 1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N1: ustanovimo enoto, čeprav pogoji niso boljši in ni dovolj varovancev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6699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troški nove enote (načrt, osebje, prostor)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6699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Večji S/V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6699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labša oskrba,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23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A2: ne ustanovimo lokalne enote VDC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Izberemo A2, če P, S in Z niso ugodnejši in če je manj kot 10 kand.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H2: V novi enoti P, S in Z niso ugodnejši; K&lt;1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N2: ne ustanovimo enote, čeprav bi pogoji bili boljši in je dovolj varovancev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6699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Večji stroški staršev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6699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labša oskrba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6699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Nezadovo.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333000"/>
            <a:ext cx="82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FORMULIRANJE PROBLEMA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ZAPIS PROBLEMA: </a:t>
            </a:r>
            <a:r>
              <a:rPr b="1" lang="en-US" sz="2400" spc="-1" strike="noStrike">
                <a:solidFill>
                  <a:srgbClr val="cc99ff"/>
                </a:solidFill>
                <a:latin typeface="Verdana"/>
              </a:rPr>
              <a:t>primer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“Šola kot psihosocialna opora”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Verdana"/>
              </a:rPr>
              <a:t>Alternativni ukrepi (dejanja):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objaviti, da ima šola pomembno funkcijo opore; … da nima…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Verdana"/>
              </a:rPr>
              <a:t>Mere učinkovitosti: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% študentov, ki so bili v stiski in so dobili oporo v šoli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Verdana"/>
              </a:rPr>
              <a:t>Pogoji sprejemljivosti: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če je % študentov, ki so bili v stiski in so dobili oporo v šoli, večji od 50%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Verdana"/>
              </a:rPr>
              <a:t>Hipoteze: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% študentov, ki so bili v stiski in so dobili oporo v šoli, je/ni večji od 50%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Verdana"/>
              </a:rPr>
              <a:t>Možne posledice (napak):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napaka, če objavimo, da ima to funkcijo, ko je nima (zanašanje na šolo); napaka, če objavimo, da nima te funkcije, ko jo ima (spregledamo pomembno funkcijo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FORMULIRANJE PROBLEMA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AVIDEZNI PROBLEMI IN RAZISKAVE, KI NE SLUŽIJO NE PRAKTIČNEMU ODLOČANJU IN NE SPOZNAVNIM SMOTRO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Verdana"/>
              </a:rPr>
              <a:t>Problemi brez uporabnika ali brez ciljev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(npr. raziskava ali družinske razmere učencev Romov vplivajo na pomanjkanje delovnih navad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Verdana"/>
              </a:rPr>
              <a:t>Problemi z navideznimi alternativami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cc99ff"/>
                </a:solidFill>
                <a:latin typeface="Verdana"/>
              </a:rPr>
              <a:t>ali brez alternativ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(npr. raziskati, kako uspešno se je razvijala organizacija; vsi pa vedo, da se je dobro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Verdana"/>
              </a:rPr>
              <a:t>Motivi in razlogi za raziskovanje navideznih problemov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(raziskava kot sredstvo pri prizadevanju za ugled in denar; raziskava kot sredstvo za odlašanje ukrepov; raziskava kot del togega rituala v organizaciji; raziskava kot potrjevanje vnaprej znanih stališč; raziskava kot preiskava; raziskava iz osebnih nevrotičnih motivov)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FORMULIRANJE PROBLEMA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roučitev problemske situacij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Zapis problema,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hipotez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500360" y="981000"/>
            <a:ext cx="718920" cy="11527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64000" y="2781360"/>
            <a:ext cx="0" cy="1655640"/>
          </a:xfrm>
          <a:prstGeom prst="line">
            <a:avLst/>
          </a:prstGeom>
          <a:ln cap="rnd" w="9360">
            <a:solidFill>
              <a:srgbClr val="0066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20000" y="981000"/>
            <a:ext cx="0" cy="352764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FORMULIRANJE PROBLEMA - HIPOTEZE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STRUKTUR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Vprašanje ali hipotez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Operacionalna formulacija hipotez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Pravila za formuliranje hipotez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Vrste hipotez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FORMULIRANJE PROBLEMA - HIPOTEZE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IPOTEZ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- So sodbe ali trditve, ki jih kot možne rezultate raziskave izrečemo na začetku raziskave in katerih resničnost naj raziskava preveri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FORMULIRANJE PROBLEMA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Problem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= težava, težavna situacija, ko ne vemo, kaj in kako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MOŽNI PROBLEMI RAZISKOVANJA V SD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Vpliv poklicnega usposabljanja na zaposlovanje invalidov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Zadovoljstvo uporabnikov pomoči na domu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Modeli varstva stanovalcev z demenco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otrebe po uvajanju dnevnega varstva v DSO (koliko uporabnikov? So kadri?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Vzroki izostankov z dela…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FORMULIRANJE PROBLEMA - HIPOTEZE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PRAŠANJA NAMESTO HIPOTEZ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Kadar o kakem problemu ali področju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raziskovanja </a:t>
            </a:r>
            <a:r>
              <a:rPr b="0" lang="en-US" sz="2800" spc="-1" strike="noStrike">
                <a:solidFill>
                  <a:srgbClr val="ff9933"/>
                </a:solidFill>
                <a:latin typeface="Verdana"/>
              </a:rPr>
              <a:t>ne vemo dovolj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, da bi lahko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ormulirali dobre hipoteze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99ff"/>
                </a:solidFill>
                <a:latin typeface="Verdana"/>
              </a:rPr>
              <a:t>Prim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Kakšne so značilnosti mater, ki dajo otroka v posvojitev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Kako te matere doživljajo dejstvo, da gre otrok v posvojitev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89647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FORMULIRANJE PROBLEMA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- </a:t>
            </a: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HIPOTEZE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ZAPIS PROBLEMA: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Vprašanja ali hipoteze (1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rimer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neustreznega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vprašanja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9933"/>
                </a:solidFill>
                <a:latin typeface="Verdana"/>
              </a:rPr>
              <a:t>Kje mladi dobijo drogo?”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Možni odgovori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 Sloveniji – v Avstriji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 Ljubljani – v Mariboru – v Sp. Kašlju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oma – v šoli – na ulici – v disku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Kaj nas zanima?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Kje? Od koga? Kaj prevladuje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FORMULIRANJE PROBLEMA - HIPOTEZE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ZAPIS PROBLEMA: </a:t>
            </a:r>
            <a:r>
              <a:rPr b="1" lang="sl-SI" sz="3200" spc="-1" strike="noStrike">
                <a:solidFill>
                  <a:srgbClr val="006699"/>
                </a:solidFill>
                <a:latin typeface="Verdana"/>
              </a:rPr>
              <a:t>Vprašanja ali hipoteze (2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cc99ff"/>
                </a:solidFill>
                <a:latin typeface="Verdana"/>
              </a:rPr>
              <a:t>Ustrezneje – hipoteze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H: Večina mladih se z drogo oskrbi v disku (na ulici itd.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H: Večina mladih dobi drogo od prijateljev (sošolcev, neposredno od dilerjev itd.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FORMULIRANJE PROBLEMA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- HIPOTEZE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ZAPIS PROBLEMA: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Vprašanja ali hipoteze (3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Neustrezno (vprašanje)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Kdo pripelje otroka v vrtec? </a:t>
            </a:r>
            <a:r>
              <a:rPr b="0" lang="en-US" sz="2800" spc="-1" strike="noStrike">
                <a:solidFill>
                  <a:srgbClr val="ff9933"/>
                </a:solidFill>
                <a:latin typeface="Verdana"/>
              </a:rPr>
              <a:t>Možni odgovori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odrasla oseba, babica, mama, starejša sestr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Kaj nas zanima?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Ali pripeljejo otroka pogosteje matere ali očetje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FORMULIRANJE PROBLEMA - HIPOTEZE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ZAPIS PROBLEMA: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Vprašanja ali hipoteze (4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Ustrezneje (hipoteza)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H: Otroke pripeljejo v vrtec pogosteje matere /očetje / ni razlike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FORMULIRANJE PROBLEMA - HIPOTEZE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964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ZAPIS PROBLEMA: </a:t>
            </a:r>
            <a:r>
              <a:rPr b="1" lang="sl-SI" sz="2800" spc="-1" strike="noStrike">
                <a:solidFill>
                  <a:srgbClr val="006699"/>
                </a:solidFill>
                <a:latin typeface="Verdana"/>
              </a:rPr>
              <a:t>Vprašanja ali hipoteze (5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Slabo vprašanje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Kje so moji ključi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Možni odgovori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Na mizi, v Ljubljanici, v služb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Preformuliranje vprašanja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Ali so moji ključi v žepu suknjiča, v torbi, na delovni mizi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Hipoteze: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moji ključi so/niso v žepu suknjiča, v torbi, na delovni miz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FORMULIRANJE PROBLEMA - HIPOTEZE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ZAPIS HIPOTEZ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Hipoteze lahko predstavimo na treh nivojih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v </a:t>
            </a:r>
            <a:r>
              <a:rPr b="0" lang="sl-SI" sz="2800" spc="-1" strike="noStrike">
                <a:solidFill>
                  <a:srgbClr val="ff9933"/>
                </a:solidFill>
                <a:latin typeface="Verdana"/>
              </a:rPr>
              <a:t>konceptualni oblik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v </a:t>
            </a:r>
            <a:r>
              <a:rPr b="0" lang="sl-SI" sz="2800" spc="-1" strike="noStrike">
                <a:solidFill>
                  <a:srgbClr val="ff9933"/>
                </a:solidFill>
                <a:latin typeface="Verdana"/>
              </a:rPr>
              <a:t>operacionalizirani oblik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v </a:t>
            </a:r>
            <a:r>
              <a:rPr b="0" lang="sl-SI" sz="2800" spc="-1" strike="noStrike">
                <a:solidFill>
                  <a:srgbClr val="ff9933"/>
                </a:solidFill>
                <a:latin typeface="Verdana"/>
              </a:rPr>
              <a:t>statistični obliki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800" spc="-1" strike="noStrike">
                <a:solidFill>
                  <a:srgbClr val="ff9933"/>
                </a:solidFill>
                <a:latin typeface="Verdana"/>
              </a:rPr>
              <a:t>(ničelna hipoteza,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800" spc="-1" strike="noStrike">
                <a:solidFill>
                  <a:srgbClr val="ff9933"/>
                </a:solidFill>
                <a:latin typeface="Verdana"/>
              </a:rPr>
              <a:t>alternativna hipoteza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Morajo biti </a:t>
            </a:r>
            <a:r>
              <a:rPr b="1" lang="sl-SI" sz="2800" spc="-1" strike="noStrike">
                <a:solidFill>
                  <a:srgbClr val="ff9933"/>
                </a:solidFill>
                <a:latin typeface="Verdana"/>
              </a:rPr>
              <a:t>formulirane operacionalno</a:t>
            </a:r>
            <a:r>
              <a:rPr b="1" lang="sl-SI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‘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projekt pomoči starim na domu je </a:t>
            </a:r>
            <a:r>
              <a:rPr b="1" lang="sl-SI" sz="2800" spc="-1" strike="noStrike">
                <a:solidFill>
                  <a:srgbClr val="cc99ff"/>
                </a:solidFill>
                <a:latin typeface="Verdana"/>
              </a:rPr>
              <a:t>uspešen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’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  <a:ea typeface="Times New Roman"/>
              </a:rPr>
              <a:t>→ 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č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  <a:ea typeface="Times New Roman"/>
              </a:rPr>
              <a:t>e je zajel več kot 75% tistih, ki ne morejo najeti zasebnega servisa in 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č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  <a:ea typeface="Times New Roman"/>
              </a:rPr>
              <a:t>e je ve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č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  <a:ea typeface="Times New Roman"/>
              </a:rPr>
              <a:t> kot 75% prejemnikov pomo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č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  <a:ea typeface="Times New Roman"/>
              </a:rPr>
              <a:t>i zadovoljnih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FORMULIRANJE PROBLEMA - HIPOTEZE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893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HIPOTEZE: </a:t>
            </a:r>
            <a:r>
              <a:rPr b="0" lang="sl-SI" sz="3200" spc="-1" strike="noStrike">
                <a:solidFill>
                  <a:srgbClr val="cc99ff"/>
                </a:solidFill>
                <a:latin typeface="Verdana"/>
              </a:rPr>
              <a:t>operacionalne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 (1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cc99ff"/>
                </a:solidFill>
                <a:latin typeface="Verdana"/>
              </a:rPr>
              <a:t>Neoperacionalna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H: Delo mladin. kluba je bilo </a:t>
            </a:r>
            <a:r>
              <a:rPr b="0" lang="sl-SI" sz="3200" spc="-1" strike="noStrike">
                <a:solidFill>
                  <a:srgbClr val="ff9933"/>
                </a:solidFill>
                <a:latin typeface="Verdana"/>
              </a:rPr>
              <a:t>uspešno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cc99ff"/>
                </a:solidFill>
                <a:latin typeface="Verdana"/>
              </a:rPr>
              <a:t>Operacionalna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H</a:t>
            </a:r>
            <a:r>
              <a:rPr b="0" lang="sl-SI" sz="32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: V treh letih delovanja MK je </a:t>
            </a:r>
            <a:r>
              <a:rPr b="0" lang="sl-SI" sz="3200" spc="-1" strike="noStrike">
                <a:solidFill>
                  <a:srgbClr val="ff9933"/>
                </a:solidFill>
                <a:latin typeface="Verdana"/>
              </a:rPr>
              <a:t>število članov stalno naraščalo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H</a:t>
            </a:r>
            <a:r>
              <a:rPr b="0" lang="sl-SI" sz="32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: V treh letih delovanja MK se je </a:t>
            </a:r>
            <a:r>
              <a:rPr b="0" lang="sl-SI" sz="3200" spc="-1" strike="noStrike">
                <a:solidFill>
                  <a:srgbClr val="ff9933"/>
                </a:solidFill>
                <a:latin typeface="Verdana"/>
              </a:rPr>
              <a:t>povečalo število dejavnosti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896472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FORMULIRANJE PROBLEMA - HIPOTEZE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HIPOTEZE: 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operacionalne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(2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Neoperacionalna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H: </a:t>
            </a:r>
            <a:r>
              <a:rPr b="0" lang="sl-SI" sz="2800" spc="-1" strike="noStrike">
                <a:solidFill>
                  <a:srgbClr val="006666"/>
                </a:solidFill>
                <a:latin typeface="Verdana"/>
              </a:rPr>
              <a:t>Dolga odsotnost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matere </a:t>
            </a:r>
            <a:r>
              <a:rPr b="0" lang="sl-SI" sz="2800" spc="-1" strike="noStrike">
                <a:solidFill>
                  <a:srgbClr val="ff9933"/>
                </a:solidFill>
                <a:latin typeface="Verdana"/>
              </a:rPr>
              <a:t>škodljivo vpliva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na dojenčka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Operacionalna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H: Dojenčki, katerih matere so bile </a:t>
            </a:r>
            <a:r>
              <a:rPr b="0" lang="sl-SI" sz="2800" spc="-1" strike="noStrike">
                <a:solidFill>
                  <a:srgbClr val="006666"/>
                </a:solidFill>
                <a:latin typeface="Verdana"/>
              </a:rPr>
              <a:t>odsotne 3 dni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, so po vrnitvi matere </a:t>
            </a:r>
            <a:r>
              <a:rPr b="0" lang="sl-SI" sz="2800" spc="-1" strike="noStrike">
                <a:solidFill>
                  <a:srgbClr val="ff9933"/>
                </a:solidFill>
                <a:latin typeface="Verdana"/>
              </a:rPr>
              <a:t>manjkrat spontano vzpostavili stik z mater. očmi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, kot dojenčki, katerih matere so bile odsotne 1 dan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89647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FORMULIRANJE PROBLEMA - HIPOTEZE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HIPOTEZE: 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operacionalne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(3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Neoperacionalna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Udeležba na seminarju o aidsu je </a:t>
            </a:r>
            <a:r>
              <a:rPr b="0" lang="sl-SI" sz="2800" spc="-1" strike="noStrike">
                <a:solidFill>
                  <a:srgbClr val="ff9933"/>
                </a:solidFill>
                <a:latin typeface="Verdana"/>
              </a:rPr>
              <a:t>ugodno vplivala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na študente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Operacionalna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Študentje, ki so se udeležili seminarja o aidsu, so </a:t>
            </a:r>
            <a:r>
              <a:rPr b="0" lang="sl-SI" sz="2800" spc="-1" strike="noStrike">
                <a:solidFill>
                  <a:srgbClr val="ff9933"/>
                </a:solidFill>
                <a:latin typeface="Verdana"/>
              </a:rPr>
              <a:t>dosegli statistično pomembno višji rezultat na testu poučenosti o aidsu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kot primerljiva skupina študentov, ki se seminarja niso udeležili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FORMULIRANJE PROBLEMA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Verdana"/>
              </a:rPr>
              <a:t>Namen faze formuliranja problema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Zagotoviti raziskovanje</a:t>
            </a:r>
            <a:r>
              <a:rPr b="0" lang="en-US" sz="32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stvarnega</a:t>
            </a:r>
            <a:r>
              <a:rPr b="0" lang="en-US" sz="32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 ne</a:t>
            </a:r>
            <a:r>
              <a:rPr b="0" lang="en-US" sz="32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navideznega</a:t>
            </a:r>
            <a:r>
              <a:rPr b="0" lang="en-US" sz="32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roblem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Stvaren problem: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rešitev vodi do smiselne praktične (teoretične) uporab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Navidezen problem: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služi drugim smotrom (taktiziranje ipd.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896472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FORMULIRANJE PROBLEMA - HIPOTEZE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HIPOTEZE: 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operacionalne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(4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Neoperacionalna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Kakovost življenja družin z otrokom z duševno motnjo </a:t>
            </a:r>
            <a:r>
              <a:rPr b="0" lang="sl-SI" sz="2800" spc="-1" strike="noStrike">
                <a:solidFill>
                  <a:srgbClr val="ff9933"/>
                </a:solidFill>
                <a:latin typeface="Verdana"/>
              </a:rPr>
              <a:t>ni zadovoljiva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Operacionalna:</a:t>
            </a:r>
            <a:r>
              <a:rPr b="0" lang="sl-SI" sz="28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Kakovost življenja družin z otrokom z duševno motnjo </a:t>
            </a:r>
            <a:r>
              <a:rPr b="0" lang="sl-SI" sz="2800" spc="-1" strike="noStrike">
                <a:solidFill>
                  <a:srgbClr val="ff9933"/>
                </a:solidFill>
                <a:latin typeface="Verdana"/>
              </a:rPr>
              <a:t>je v povprečju pod polovico možnega razpona lestvice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(alt. </a:t>
            </a:r>
            <a:r>
              <a:rPr b="0" lang="sl-SI" sz="2800" spc="-1" strike="noStrike">
                <a:solidFill>
                  <a:srgbClr val="ff9933"/>
                </a:solidFill>
                <a:latin typeface="Verdana"/>
              </a:rPr>
              <a:t>pod polovico razpona je več kot 25% družin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89647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FORMULIRANJE PROBLEMA -HIPOTEZE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IPOTEZE: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operacionalizacija -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povzetek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 vseh primerih smo precizirali, konkretizirali presplošno </a:t>
            </a:r>
            <a:r>
              <a:rPr b="0" lang="en-US" sz="3200" spc="-1" strike="noStrike">
                <a:solidFill>
                  <a:srgbClr val="ff9933"/>
                </a:solidFill>
                <a:latin typeface="Verdana"/>
              </a:rPr>
              <a:t>mero (kriterij) uspešnosti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ali </a:t>
            </a:r>
            <a:r>
              <a:rPr b="0" lang="en-US" sz="3200" spc="-1" strike="noStrike">
                <a:solidFill>
                  <a:srgbClr val="ff9933"/>
                </a:solidFill>
                <a:latin typeface="Verdana"/>
              </a:rPr>
              <a:t>razlikovanja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, npr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ugodno vpliva: se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poveča število članov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škoduje: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pogosteje odvrača pogled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FORMULIRANJE PROBLEMA - HIPOTEZE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RAVILA ZA FORMULIRANJE HIPOTEZ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Verdana"/>
              </a:rPr>
              <a:t>Izčrpnost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(izčrpati vse možne odgovore oz. pogoje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Verdana"/>
              </a:rPr>
              <a:t>Medsebojno izključevanje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rimer, kjer </a:t>
            </a:r>
            <a:r>
              <a:rPr b="0" lang="en-US" sz="2400" spc="-1" strike="noStrike">
                <a:solidFill>
                  <a:srgbClr val="ff9933"/>
                </a:solidFill>
                <a:latin typeface="Verdana"/>
              </a:rPr>
              <a:t>niso izčrpani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vsi pogoji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H1: Potovanje z avtobusom je cenejše od potovanja z osebnim avtomobilom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H2: Potovanje z avtobusom je dražje kot z avtomobilom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ff"/>
                </a:solidFill>
                <a:latin typeface="Verdana"/>
              </a:rPr>
              <a:t>Potovanje z obema sredstvoma je lahko tudi enako drago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rimer, kjer se pogoji </a:t>
            </a:r>
            <a:r>
              <a:rPr b="0" lang="en-US" sz="2400" spc="-1" strike="noStrike">
                <a:solidFill>
                  <a:srgbClr val="ff9933"/>
                </a:solidFill>
                <a:latin typeface="Verdana"/>
              </a:rPr>
              <a:t>ne izključujejo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H1: Storilnost invalidov je </a:t>
            </a:r>
            <a:r>
              <a:rPr b="0" lang="en-US" sz="2000" spc="-1" strike="noStrike">
                <a:solidFill>
                  <a:srgbClr val="cc99ff"/>
                </a:solidFill>
                <a:latin typeface="Verdana"/>
              </a:rPr>
              <a:t>enaka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ali višja od storilnosti zdravih delavcev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H2: Storilnost invalidov je </a:t>
            </a:r>
            <a:r>
              <a:rPr b="0" lang="en-US" sz="2000" spc="-1" strike="noStrike">
                <a:solidFill>
                  <a:srgbClr val="cc99ff"/>
                </a:solidFill>
                <a:latin typeface="Verdana"/>
              </a:rPr>
              <a:t>enaka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ali nižja od storilnosti zdravih delavcev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102960"/>
            <a:ext cx="88930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FORMULIRANJE PROBLEMA - HIPOTEZE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PRAVILA ZA FORMULIRANJE HIPOTEZ - </a:t>
            </a:r>
            <a:r>
              <a:rPr b="0" lang="en-US" sz="3600" spc="-1" strike="noStrike">
                <a:solidFill>
                  <a:srgbClr val="cc99ff"/>
                </a:solidFill>
                <a:latin typeface="Verdana"/>
              </a:rPr>
              <a:t>Primeri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H: Štev. potencialnih uporabnikov VDC je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X&gt;5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Kaj manjka?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X&lt;5, X=5; </a:t>
            </a:r>
            <a:r>
              <a:rPr b="0" lang="en-US" sz="2800" spc="-1" strike="noStrike">
                <a:solidFill>
                  <a:srgbClr val="ff9933"/>
                </a:solidFill>
                <a:latin typeface="Verdana"/>
              </a:rPr>
              <a:t>H ni izčrpna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H: Štev. potencialnih uporabnikov VDC je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X≥5 / je X≤5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Kaj se prekriva?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V obeh H je X=5. </a:t>
            </a:r>
            <a:r>
              <a:rPr b="0" lang="en-US" sz="2800" spc="-1" strike="noStrike">
                <a:solidFill>
                  <a:srgbClr val="ff9933"/>
                </a:solidFill>
                <a:latin typeface="Verdana"/>
              </a:rPr>
              <a:t>H se ne izključujeta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FORMULIRANJE PROBLEMA - HIPOTEZE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RSTE HIPOTEZ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-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ipoteze ocenjevanj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ipoteze primerjanj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ipoteze pojasnjevanj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FORMULIRANJE PROBLEMA -HIPOTEZE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VRSTE HIPOTEZ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HIPOTEZE OCENJEVANJA (o vrednostih ene spremenljivke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Splošna oblik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Vrednost spremenljivke S v populaciji P je X (ali je X od Y).”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Prim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Študentje FSD so doživeli v povprečju X obremenilnih situacij”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Verdana"/>
              </a:rPr>
              <a:t>Lahko pretvorimo v vprašanje: Koliko je…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FORMULIRANJE PROBLEMA - HIPOTEZE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VRSTE HIPOTEZ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2. HIPOTEZE PRIMERJANJ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2.1. O razlikah med vrednostmi iste spremenljivke pri isti ali različnih populacijah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) O razlikah v času (kraju, stvarnem področju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Splošna oblik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Vrednost spremenljivke S je v času t1 (kraju k1, stvarnem področju s1) enaka (različna) kot v času t2 (kraju k2, stvarnem področju s2).”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99"/>
                </a:solidFill>
                <a:latin typeface="Verdana"/>
              </a:rPr>
              <a:t>Primeri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Čas: “Število kaznivih dejanj v SLO v zadnjih 5 letih narašča.”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Kraj: “Število dobrodelnih fundacij je v Avstriji večje kot v Sloveniji.”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tvarna opredelitev: “ V mestnih šolah je večji odstotek učencev, ki jih obravnava ŠSS kot v podeželskih šolah.”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FORMULIRANJE PROBLEMA - HIPOTEZE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VRSTE HIPOTEZ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2. HIPOTEZE PRIMERJANJ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2.1. O razlikah med vrednostmi iste spremenljivke pri isti ali različnih populacijah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b) O razlikah med dejansko opaženo vrednostjo spremenljivke in pričakovano vrednostjo (kriterijem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006699"/>
                </a:solidFill>
                <a:latin typeface="Verdana"/>
              </a:rPr>
              <a:t>Splošna oblik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1" lang="sl-SI" sz="2400" spc="-1" strike="noStrike">
                <a:solidFill>
                  <a:srgbClr val="006699"/>
                </a:solidFill>
                <a:latin typeface="Verdana"/>
              </a:rPr>
              <a:t>Dejansko opažena vrednost X1 spremenljivke S je enaka (različna) pričakovani (kriterijski vrednosti) a.”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6699"/>
                </a:solidFill>
                <a:latin typeface="Verdana"/>
              </a:rPr>
              <a:t>Primer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Prehrana v prehodnem domu za tujce ustreza higienskim standardom.”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FORMULIRANJE PROBLEMA - HIPOTEZE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VRSTE HIPOTEZ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2. HIPOTEZE PRIMERJANJ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2.2. O zvezi (korelaciji) med dvema ali več spremenljivkam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Splošna oblik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Je zveza (korelacija) med spremenljivko S1 in spremenljivko S2.”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Primer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Je korelacija med številom obremenilnih situacij in stopnjo doživetega zanemarjanja v otroštvu.”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Čim višja je izobrazba očeta, tem višja je izobrazbena aspiracija otroka.”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FORMULIRANJE PROBLEMA - HIPOTEZE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VRSTE HIPOTEZ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3. POJASNJEVALNE HIPOTEZE (o vzročni zvezi – odvisnosti dveh ali več spremenljivk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6699"/>
                </a:solidFill>
                <a:latin typeface="Verdana"/>
              </a:rPr>
              <a:t>Splošna oblik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1" lang="sl-SI" sz="2800" spc="-1" strike="noStrike">
                <a:solidFill>
                  <a:srgbClr val="006699"/>
                </a:solidFill>
                <a:latin typeface="Verdana"/>
              </a:rPr>
              <a:t>Spremenljivka S1 vpliva na (določa, povzroča) spremenljivko S2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6699"/>
                </a:solidFill>
                <a:latin typeface="Verdana"/>
              </a:rPr>
              <a:t>Primer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Socialno-ekonomski položaj </a:t>
            </a:r>
            <a:r>
              <a:rPr b="0" lang="sl-SI" sz="2800" spc="-1" strike="noStrike">
                <a:solidFill>
                  <a:srgbClr val="ff9933"/>
                </a:solidFill>
                <a:latin typeface="Verdana"/>
              </a:rPr>
              <a:t>vpliva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na izobrazbene aspiracije otrok.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Dolgotrajna odsotnost matere </a:t>
            </a:r>
            <a:r>
              <a:rPr b="0" lang="sl-SI" sz="2800" spc="-1" strike="noStrike">
                <a:solidFill>
                  <a:srgbClr val="ff9933"/>
                </a:solidFill>
                <a:latin typeface="Verdana"/>
              </a:rPr>
              <a:t>povzroči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razvojni zaostanek pri otroku.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FORMULIRANJE PROBLEMA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KAJ JE PROBLEM RAZISKOVANJA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Vprašanje, ki odraža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stvarno problematično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stanje kot realno življenjsko situacijo, v kateri so se znašli neki ljudje pri uresničevanju svojih potreb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Problem je stvaren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, če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Obstaja vprašanje, na katerega ne vemo odgovora (v območju empiričnega)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ta možni vsaj dve rešitvi in ne vemo, katera je boljša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Ne moremo odgovoriti na osnovi starega znanja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FORMULIRANJE PROBLEMA - HIPOTEZE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RSTE HIPOTEZ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Za kakšno vrsto hipotez gre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odelovanje v mladinski delavnici izboljša mladostnikovo sprejemanje samega sebe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Vključitev v zakonsko svetovanje zmanjša število konfliktov med razvezanimi partnerji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Študentova ocena učiteljev je tem višja, čim bolj redno je študent obiskoval predavanja in vaje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V kraju K. je 100 starih ljudi, ki potrebujejo pomoč na domu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Število brezposelnih socialnih delavk v Sloveniji ne narašča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FORMULIRANJE PROBLEMA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PODFAZI: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Raziskovanje družbene situacije, v kateri bo potekala raziskava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Zapis problema kot raziskovalnega vprašanja in hipoteze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FORMULIRANJE PROBLEMA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Proučitev problemske situacij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Zapis problema,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ipotez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500360" y="981000"/>
            <a:ext cx="718920" cy="11527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64000" y="2781360"/>
            <a:ext cx="0" cy="1655640"/>
          </a:xfrm>
          <a:prstGeom prst="line">
            <a:avLst/>
          </a:prstGeom>
          <a:ln cap="rnd" w="9360">
            <a:solidFill>
              <a:srgbClr val="0066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20000" y="981000"/>
            <a:ext cx="0" cy="352764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FORMULIRANJE PROBLEMA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SESTAVINE FORMULACIJE PROBLEMA (po Ackoffu, 1996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Udeleženci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Cilji udeležencev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Različni možni ukrepi za dosego ciljev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Negotovost glede učinkovitosti možnih ukrepov (kateri ukrep je ustreznejši?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Okolje (pogoji, predpostavke) problemske situacij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404280"/>
            <a:ext cx="824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FORMULIRANJE PROBLEMA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9647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STAVINE PROBLEMSKE SITUACIJE </a:t>
            </a:r>
            <a:r>
              <a:rPr b="1" lang="en-US" sz="2800" spc="-1" strike="noStrike">
                <a:solidFill>
                  <a:srgbClr val="cc99ff"/>
                </a:solidFill>
                <a:latin typeface="Verdana"/>
              </a:rPr>
              <a:t>Udeleženci in njihovi interes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Na koga bodo ugotovitve raziskave vplivale? Kdo so uporabniki ugotovitev raziskave?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Kdo je za, kdo proti; kdo je zainteresiran za raziskavo; kdo bo na njeni osnovi kaj ukrenil? za kaj si prizadeva? kaj hoče doseči? kdo bo prizadet? bo komu škodila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RIMER: Ali ustanovimo VDC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Če da, bodo </a:t>
            </a:r>
            <a:r>
              <a:rPr b="0" lang="en-US" sz="2400" spc="-1" strike="noStrike">
                <a:solidFill>
                  <a:srgbClr val="cc99ff"/>
                </a:solidFill>
                <a:latin typeface="Verdana"/>
              </a:rPr>
              <a:t>starši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azbremenjeni skrbi, </a:t>
            </a:r>
            <a:r>
              <a:rPr b="0" lang="en-US" sz="2400" spc="-1" strike="noStrike">
                <a:solidFill>
                  <a:srgbClr val="cc99ff"/>
                </a:solidFill>
                <a:latin typeface="Verdana"/>
              </a:rPr>
              <a:t>občina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obremenjena s stroški; če ne, bo obratno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FORMULIRANJE PROBLEMA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SESTAVINE PROBLEMSKE SITUACIJE: </a:t>
            </a:r>
            <a:r>
              <a:rPr b="1" lang="sl-SI" sz="2800" spc="-1" strike="noStrike">
                <a:solidFill>
                  <a:srgbClr val="cc99ff"/>
                </a:solidFill>
                <a:latin typeface="Verdana"/>
              </a:rPr>
              <a:t>Različni možni ukrepi za dosego ciljev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Primeri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Ustanoviti VDC ali ne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Organizirati pomoč na domu za 10?20?30? oseb? Vsak dan ali redkeje? 1 uro ali več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Je program psihosoc. pomoči družini uspešen ali ne? Naj nadaljujemo z njim ali ne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12:13:44Z</dcterms:created>
  <dc:creator>Liljana Rihter</dc:creator>
  <dc:description/>
  <dc:language>en-US</dc:language>
  <cp:lastModifiedBy>Liljana Rihter</cp:lastModifiedBy>
  <dcterms:modified xsi:type="dcterms:W3CDTF">2008-10-15T05:42:46Z</dcterms:modified>
  <cp:revision>16</cp:revision>
  <dc:subject/>
  <dc:title>Diapozitiv 1</dc:title>
</cp:coreProperties>
</file>